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505-A5D8-41F9-A9F3-0A3BAA2A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D52-6B72-44A8-8E2B-9530E702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3AE-63A2-4720-A002-26BF2090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BDD-87D9-4A46-8749-01BED8AD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F14-1316-49D2-9DC1-D5FDE75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4A1-CBEC-4B8D-99E9-0D9E052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95E-4DF3-460A-8630-4A56E45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D3F-D040-497E-B860-B968A7A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CA4-64BA-4E9F-B76C-BDF849F5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5CF-5073-4501-9126-19435EE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19C-9F87-41DA-8EE3-79DCA1DC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FC4-2B52-4096-BD4A-9CEA3E4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0545-4381-4616-9E1D-4D854F05F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n.wikipedia.org/wiki/File:Ciismaniya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6" descr=""/>
          <p:cNvPicPr/>
          <p:nvPr/>
        </p:nvPicPr>
        <p:blipFill>
          <a:blip r:embed="rId1"/>
          <a:stretch/>
        </p:blipFill>
        <p:spPr>
          <a:xfrm>
            <a:off x="2584440" y="396720"/>
            <a:ext cx="3670200" cy="114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t1.gstatic.com/images?q=tbn:ANd9GcQThLfNsz8wIvl4Z0eUizVLCmSuFr_QbUQWU5MCwikikzPHGnoQ"/>
          <p:cNvPicPr/>
          <p:nvPr/>
        </p:nvPicPr>
        <p:blipFill>
          <a:blip r:embed="rId2"/>
          <a:stretch/>
        </p:blipFill>
        <p:spPr>
          <a:xfrm>
            <a:off x="609480" y="1508040"/>
            <a:ext cx="77724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the flag of Som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t2.gstatic.com/images?q=tbn:ANd9GcTRItUUN5ahHaWEbSEsqTobJX1IO_L-PIFk3fSazsjOICEynWpg"/>
          <p:cNvPicPr/>
          <p:nvPr/>
        </p:nvPicPr>
        <p:blipFill>
          <a:blip r:embed="rId1"/>
          <a:stretch/>
        </p:blipFill>
        <p:spPr>
          <a:xfrm>
            <a:off x="1219320" y="531720"/>
            <a:ext cx="6172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t2.gstatic.com/images?q=tbn:ANd9GcTaiR5OQ7TMGBtIMJIvzaLzmDkXoZ8XEhLHDVKvZr0CN6LrANk-TA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ioseaturtles.org/UserFiles/Image/Somalia-POM-50_rev.jpg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2511360" y="334800"/>
            <a:ext cx="352440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upload.wikimedia.org/wikipedia/commons/thumb/d/d4/Ciismaniya.jpg/200px-Ciismaniy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133720"/>
            <a:ext cx="2652840" cy="2705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80880" y="5334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used many simbles like these to commun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0.gstatic.com/images?q=tbn:ANd9GcQYHZDCjLbkXooM8ry4KAmdDKUdN9qqcnQ7BDe-CDWB01TfXYjT"/>
          <p:cNvPicPr/>
          <p:nvPr/>
        </p:nvPicPr>
        <p:blipFill>
          <a:blip r:embed="rId4"/>
          <a:stretch/>
        </p:blipFill>
        <p:spPr>
          <a:xfrm>
            <a:off x="5257800" y="25146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502920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 Somalias meals are meat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1" descr=""/>
          <p:cNvPicPr/>
          <p:nvPr/>
        </p:nvPicPr>
        <p:blipFill>
          <a:blip r:embed="rId1"/>
          <a:stretch/>
        </p:blipFill>
        <p:spPr>
          <a:xfrm>
            <a:off x="2017800" y="-182520"/>
            <a:ext cx="46576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19520" y="1371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ital city is Mogadis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19520" y="1981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de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952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gion is Sunni 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19520" y="297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ural resource is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1952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eracy rate 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1487520" y="579600"/>
            <a:ext cx="619272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905120" y="19810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is referred to as the Horn of Af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905120" y="2590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gged mountain ranges in the north are called the Karkaar mou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905120" y="3657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ather is hot and dry most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90512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imals include: nile crocodiles, elephants, cheetahs and giraff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6:54:04Z</dcterms:created>
  <dc:creator>poweruser</dc:creator>
  <dc:description/>
  <dc:language>en-US</dc:language>
  <cp:lastModifiedBy>poweruser</cp:lastModifiedBy>
  <dcterms:modified xsi:type="dcterms:W3CDTF">2012-02-23T02:36:15Z</dcterms:modified>
  <cp:revision>6</cp:revision>
  <dc:subject/>
  <dc:title>Slide 1</dc:title>
</cp:coreProperties>
</file>